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FD2-8AD2-4498-8F9D-9E42F88B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955A-CBE4-496F-A597-61665B15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870-200D-4688-A406-D8F0B93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0E0-A76F-464A-ADBF-9BB3F36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2EE-5962-4727-B42E-0FD1E2FB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DBD-BB9E-47E4-8144-EC26306D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F92-5D72-4F0D-BB6C-52D6773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8B9-E16F-4670-BDEE-F8BADEB5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A57-6A12-4D69-AF9A-C5B2F03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3D7-9C93-4870-B985-EFF39030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EA6-4E79-4021-A41B-C7A8ED03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445-56AC-4836-B106-45F9DAD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AE9-4893-433D-8DD6-9FDACDD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745-ABA8-4628-88E1-7E1E0676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DE76-2EB4-4C7C-8004-3018CD4CB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arge India Map"/>
          <p:cNvPicPr/>
          <p:nvPr/>
        </p:nvPicPr>
        <p:blipFill>
          <a:blip r:embed="rId1"/>
          <a:stretch/>
        </p:blipFill>
        <p:spPr>
          <a:xfrm>
            <a:off x="3552840" y="666720"/>
            <a:ext cx="559116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0" y="0"/>
            <a:ext cx="358128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genda 11-28 &amp; 29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G.R. 5-1 Due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India Voc. PPT due 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914400"/>
            <a:ext cx="3581280" cy="366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11-28 &amp; 29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 the map to answer the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line of latitude runs through the northern part of Ind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India mostly flat or mostly hilly with mountai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are Saudi Arabia’s physical features to India’s.  What does India have more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1430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ropic of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57200" y="3048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illy with plateau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457200" y="4267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ia has many rivers and is probably very fe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3:28:27Z</dcterms:created>
  <dc:creator>poweruser</dc:creator>
  <dc:description/>
  <dc:language>en-US</dc:language>
  <cp:lastModifiedBy>poweruser</cp:lastModifiedBy>
  <dcterms:modified xsi:type="dcterms:W3CDTF">2011-11-28T13:31:03Z</dcterms:modified>
  <cp:revision>3</cp:revision>
  <dc:subject/>
  <dc:title>Slide 1</dc:title>
</cp:coreProperties>
</file>